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7.jpeg" ContentType="image/jpe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981A-162E-42DD-96AE-840857E158F6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494-DE25-4A29-8FF7-23875F4CE8D9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Henretta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’s History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5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961-0C82-4F9A-A1D3-0539B4958821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Henretta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’s History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5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7CB-6855-4A23-BDD4-B250BBCA9C5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8FAA-4502-4C1A-B4EE-9487656D4188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B127-B36E-41E0-AE5B-8A604064F13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207-4052-4150-A084-92DDB4B5EE63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http://www.wadsworth.com/history_d/special_features/image_bank_US/1642_1715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E70-EE62-456C-A0EC-B4D13E5C6E74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Roark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n Promise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3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5549-34A5-4F00-AB79-9C4363857279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http://www.wadsworth.com/history_d/special_features/image_bank_US/1690_1763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6FC-66F7-43FE-91E1-C23938421320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, 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America and Its Peopl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D87-EF2B-4EE5-BD8B-7EA313ED5939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9FE8-C6AF-440E-8E20-F47E149F778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aragher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Out of Many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Ed.; http://wps.prenhall.com/hss_faragher_outofmany_ap/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972-8352-4C30-99BD-879A6FD954E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Roark,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merican Promise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 3e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from http://www.bedfordstmartins.com/mapcentra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A7F-E500-4EF1-AC16-54B7ADD4DE81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J. Jones, P. Wood, et al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REATED EQUAL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Bookman Old Style"/>
              </a:rPr>
              <a:t> A Social and Political History of the US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, http://wps.ablongman.com/long_jones_ce_1/0,7283,494555-,00.htm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D4D-F044-4173-B69A-C9566C98F7BC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Divine, America Past &amp; Present 7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C86-FC91-4433-840B-83766681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7F0-07BF-4A8B-9E1E-987CB8EE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183-BC4B-4FF5-9EAA-E8D6B638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039-9A98-4BE0-B9B0-C106B4D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715-2D29-4D2D-9BFF-0140E3B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59E-1FAB-411C-AF62-46E0083A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368-4A47-43E0-A02F-FE771A91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B50-83E0-4367-B4D4-DD1B9FB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75A-B5F6-4E32-B2E8-56AF62C2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B4A-1D15-4D3B-94B9-8730C961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BA6-1C2B-4206-881D-31BC359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F4A-0569-4990-9B6B-C996A7A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d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329-6C91-439E-BD4B-71F9B3A39030}" type="slidenum"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610480" cy="40384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e7960"/>
                </a:solidFill>
                <a:latin typeface="Garamond"/>
              </a:rPr>
              <a:t>Colonial Life </a:t>
            </a:r>
            <a:r>
              <a:rPr b="1" lang="en-US" sz="8000" spc="-1" strike="noStrike">
                <a:solidFill>
                  <a:srgbClr val="be7960"/>
                </a:solidFill>
                <a:latin typeface="Garamond"/>
              </a:rPr>
              <a:t>and</a:t>
            </a:r>
            <a:r>
              <a:rPr b="1" lang="en-US" sz="9600" spc="-1" strike="noStrike">
                <a:solidFill>
                  <a:srgbClr val="be7960"/>
                </a:solidFill>
                <a:latin typeface="Garamond"/>
              </a:rPr>
              <a:t> Society</a:t>
            </a:r>
            <a:endParaRPr b="1" lang="en-US" sz="96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333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A03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Garamond"/>
              </a:rPr>
              <a:t>7.8.31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9096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Religion: Diversity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67280" y="1981080"/>
            <a:ext cx="2819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Tolerance?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Great Awakening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George Whitefield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pic>
        <p:nvPicPr>
          <p:cNvPr id="78" name="Picture 3" descr="20279"/>
          <p:cNvPicPr/>
          <p:nvPr/>
        </p:nvPicPr>
        <p:blipFill>
          <a:blip r:embed="rId1"/>
          <a:stretch/>
        </p:blipFill>
        <p:spPr>
          <a:xfrm>
            <a:off x="762120" y="0"/>
            <a:ext cx="4817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638680" y="6172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5f2f"/>
                </a:solidFill>
                <a:latin typeface="Garamond"/>
              </a:rPr>
              <a:t>Religious Diversity in 175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Education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New England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Old Satan Deluder” Act (1647)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d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Economy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Mercantilism – theory, purpos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Navigation Acts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riangular” trad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muggling – quality of royal officials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5f2f"/>
                </a:solidFill>
                <a:latin typeface="Garamond"/>
              </a:rPr>
              <a:t>The Rise of the American Merchant, 1750</a:t>
            </a: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5" name="Picture 3" descr="20276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4290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Value of Colonial Exports by Region, Annual Average, 1768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Times New Roman"/>
              </a:rPr>
              <a:t>1772</a:t>
            </a:r>
            <a:endParaRPr b="1" lang="en-US" sz="36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7" name="Picture 3" descr="_x0010_Chp04-03p097.gif                                               00070FBD_x000c_Macintosh HD                   ABA78158:"/>
          <p:cNvPicPr/>
          <p:nvPr/>
        </p:nvPicPr>
        <p:blipFill>
          <a:blip r:embed="rId1"/>
          <a:stretch/>
        </p:blipFill>
        <p:spPr>
          <a:xfrm>
            <a:off x="3733920" y="304920"/>
            <a:ext cx="4971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lonial Products in the Mid-1700s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89" name="Picture 3" descr="MART"/>
          <p:cNvPicPr/>
          <p:nvPr/>
        </p:nvPicPr>
        <p:blipFill>
          <a:blip r:embed="rId1"/>
          <a:srcRect l="32011" t="0" r="0" b="23532"/>
          <a:stretch/>
        </p:blipFill>
        <p:spPr>
          <a:xfrm>
            <a:off x="2852640" y="914400"/>
            <a:ext cx="316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5f2f"/>
                </a:solidFill>
                <a:latin typeface="Garamond"/>
              </a:rPr>
              <a:t>Government: </a:t>
            </a: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Britain &amp; Its Colonies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Tradition of Lax Rule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English Civil War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Glorious Revolution - triumph of Parliament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George I and II reliance on Parliament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Whigs”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Salutary Neglect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aramond"/>
              </a:rPr>
              <a:t>Colonial tradition of self-rule </a:t>
            </a: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Colonial assemblies - powers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aramond"/>
              </a:rPr>
              <a:t>Weakness of governors</a:t>
            </a:r>
            <a:endParaRPr b="0" lang="en-US" sz="2800" spc="-1" strike="noStrike">
              <a:solidFill>
                <a:srgbClr val="8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able041"/>
          <p:cNvPicPr/>
          <p:nvPr/>
        </p:nvPicPr>
        <p:blipFill>
          <a:blip r:embed="rId1"/>
          <a:stretch/>
        </p:blipFill>
        <p:spPr>
          <a:xfrm>
            <a:off x="1697040" y="457200"/>
            <a:ext cx="5465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720" y="274320"/>
            <a:ext cx="259092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Garamond"/>
              </a:rPr>
              <a:t>Government and religion in the British Colonies, 1720</a:t>
            </a:r>
            <a:r>
              <a:rPr b="1" lang="en-US" sz="4400" spc="-1" strike="noStrike">
                <a:solidFill>
                  <a:srgbClr val="be796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4" name="Picture 4" descr="3_32"/>
          <p:cNvPicPr/>
          <p:nvPr/>
        </p:nvPicPr>
        <p:blipFill>
          <a:blip r:embed="rId1"/>
          <a:srcRect l="0" t="0" r="0" b="6530"/>
          <a:stretch/>
        </p:blipFill>
        <p:spPr>
          <a:xfrm>
            <a:off x="0" y="-95400"/>
            <a:ext cx="661032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7960"/>
                </a:solidFill>
                <a:latin typeface="Garamond"/>
              </a:rPr>
              <a:t>Eighteenth century merchants conducting business in a coffeehouse</a:t>
            </a:r>
            <a:r>
              <a:rPr b="1" lang="en-US" sz="4400" spc="-1" strike="noStrike">
                <a:solidFill>
                  <a:srgbClr val="be796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6" name="Picture 4" descr="3_11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43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5f2f"/>
                </a:solidFill>
                <a:latin typeface="Garamond"/>
              </a:rPr>
              <a:t>American Colonies at the End of the Seventeenth Century</a:t>
            </a: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51" name="Picture 3" descr="21778"/>
          <p:cNvPicPr/>
          <p:nvPr/>
        </p:nvPicPr>
        <p:blipFill>
          <a:blip r:embed="rId1"/>
          <a:stretch/>
        </p:blipFill>
        <p:spPr>
          <a:xfrm>
            <a:off x="2870280" y="0"/>
            <a:ext cx="62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7960"/>
                </a:solidFill>
                <a:latin typeface="Garamond"/>
              </a:rPr>
              <a:t>Snake cartoon by Benjamin Franklin</a:t>
            </a:r>
            <a:endParaRPr b="1" lang="en-US" sz="40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98" name="Picture 9" descr="4_3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7960"/>
                </a:solidFill>
                <a:latin typeface="Garamond"/>
              </a:rPr>
              <a:t>Population: Rapid Growth</a:t>
            </a:r>
            <a:endParaRPr b="1" lang="en-US" sz="4800" spc="-1" strike="noStrike">
              <a:solidFill>
                <a:srgbClr val="8f5f2f"/>
              </a:solidFill>
              <a:latin typeface="Garamond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0" y="1871640"/>
          <a:ext cx="914400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71640"/>
                    <a:ext cx="91440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38880" y="83772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5f2f"/>
                </a:solidFill>
                <a:latin typeface="Garamond"/>
              </a:rPr>
              <a:t>Population Growth</a:t>
            </a:r>
            <a:endParaRPr b="1" lang="en-US" sz="28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86240" y="3580920"/>
            <a:ext cx="16002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Garamond"/>
            </a:endParaRPr>
          </a:p>
        </p:txBody>
      </p:sp>
      <p:pic>
        <p:nvPicPr>
          <p:cNvPr id="57" name="Picture 2" descr="Table031"/>
          <p:cNvPicPr/>
          <p:nvPr/>
        </p:nvPicPr>
        <p:blipFill>
          <a:blip r:embed="rId1"/>
          <a:stretch/>
        </p:blipFill>
        <p:spPr>
          <a:xfrm>
            <a:off x="304920" y="228600"/>
            <a:ext cx="6858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58164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Garamond"/>
                <a:ea typeface="Times New Roman"/>
              </a:rPr>
              <a:t>Estimated Total Population of New Spain, New France, and the British North American Colonies, 170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Garamond"/>
                <a:ea typeface="Times New Roman"/>
              </a:rPr>
              <a:t>1780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59" name="Picture 3" descr="_x0010_Chp05-02p120.gif                                               00070FC6_x000c_Macintosh HD                   ABA78158:"/>
          <p:cNvPicPr/>
          <p:nvPr/>
        </p:nvPicPr>
        <p:blipFill>
          <a:blip r:embed="rId1"/>
          <a:stretch/>
        </p:blipFill>
        <p:spPr>
          <a:xfrm>
            <a:off x="3733920" y="914400"/>
            <a:ext cx="5248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3526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  <a:ea typeface="Times New Roman"/>
              </a:rPr>
              <a:t>Population: Geographic Expansion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61" name="Picture 3" descr="_x0010_Chp05-05p115.gif                                               00070FC6_x000c_Macintosh HD                   ABA78158:"/>
          <p:cNvPicPr/>
          <p:nvPr/>
        </p:nvPicPr>
        <p:blipFill>
          <a:blip r:embed="rId1"/>
          <a:stretch/>
        </p:blipFill>
        <p:spPr>
          <a:xfrm>
            <a:off x="4032360" y="228600"/>
            <a:ext cx="4943520" cy="6400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2" name="Text Box 4"/>
          <p:cNvSpPr/>
          <p:nvPr/>
        </p:nvSpPr>
        <p:spPr>
          <a:xfrm>
            <a:off x="4495680" y="5638680"/>
            <a:ext cx="4191120" cy="703800"/>
          </a:xfrm>
          <a:prstGeom prst="rect">
            <a:avLst/>
          </a:prstGeom>
          <a:solidFill>
            <a:srgbClr val="8c7b7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Movement  into the Backcountry, 1720–176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124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Population: Ethnic &amp; Racial Diversity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pic>
        <p:nvPicPr>
          <p:cNvPr id="64" name="Picture 3" descr="21779"/>
          <p:cNvPicPr/>
          <p:nvPr/>
        </p:nvPicPr>
        <p:blipFill>
          <a:blip r:embed="rId1"/>
          <a:stretch/>
        </p:blipFill>
        <p:spPr>
          <a:xfrm>
            <a:off x="38718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006" t="0" r="1006" b="0"/>
          <a:stretch/>
        </p:blipFill>
        <p:spPr>
          <a:xfrm>
            <a:off x="92160" y="1600200"/>
            <a:ext cx="8959680" cy="3794040"/>
          </a:xfrm>
          <a:prstGeom prst="rect">
            <a:avLst/>
          </a:prstGeom>
          <a:ln w="57240">
            <a:solidFill>
              <a:srgbClr val="8f5f2f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8f5f2f"/>
              </a:solidFill>
              <a:latin typeface="Garamond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f5f2f"/>
                </a:solidFill>
                <a:latin typeface="Garamond"/>
              </a:rPr>
              <a:t>Population: Age</a:t>
            </a:r>
            <a:r>
              <a:rPr b="1" lang="en-US" sz="2000" spc="-1" strike="noStrike">
                <a:solidFill>
                  <a:srgbClr val="8f5f2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85800" y="5562720"/>
            <a:ext cx="8001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Garamond"/>
              </a:rPr>
              <a:t>Population Structure by Gender and Age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Garamond"/>
              </a:rPr>
              <a:t>British Mainland Colonies, 1760s, and United States, 1980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f5f2f"/>
                </a:solidFill>
                <a:latin typeface="Garamond"/>
              </a:rPr>
              <a:t>Societies &amp; Economies </a:t>
            </a:r>
            <a:endParaRPr b="1" lang="en-US" sz="4400" spc="-1" strike="noStrike">
              <a:solidFill>
                <a:srgbClr val="8f5f2f"/>
              </a:solidFill>
              <a:latin typeface="Garamond"/>
            </a:endParaRPr>
          </a:p>
        </p:txBody>
      </p:sp>
      <p:graphicFrame>
        <p:nvGraphicFramePr>
          <p:cNvPr id="74" name="Object 7"/>
          <p:cNvGraphicFramePr/>
          <p:nvPr/>
        </p:nvGraphicFramePr>
        <p:xfrm>
          <a:off x="0" y="1523880"/>
          <a:ext cx="9144000" cy="51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1:28:31Z</dcterms:created>
  <dc:creator>April &amp; Greg Long</dc:creator>
  <dc:description/>
  <dc:language>en-US</dc:language>
  <cp:lastModifiedBy>Owner</cp:lastModifiedBy>
  <dcterms:modified xsi:type="dcterms:W3CDTF">2012-09-06T09:31:23Z</dcterms:modified>
  <cp:revision>37</cp:revision>
  <dc:subject/>
  <dc:title>Colonial America</dc:title>
</cp:coreProperties>
</file>